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CDC-056E-4E88-B823-76131AB7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FA3-861D-4405-8F2F-3F8A7D74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4E3-7A0B-47E3-8AAD-90FF911F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434-EB35-4795-9B27-C7B2BC5F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A69-71D7-46C0-90EE-5BE0842D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50B-B3EB-46C8-81B5-E4B47ED1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9D7-9894-4FBF-AC11-9B4FE8D5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5A8-8403-43FD-BC34-0C3A962C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009-F0F3-48A0-A54B-71BA83D3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115-5CD3-4B24-86D0-D2A9444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EB0-B086-4EDE-8ED8-D54A830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686-4290-466B-B7FE-63E0554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871C-62D1-47C7-BA4B-93EC56B6FAFF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E3FF-DA5D-438C-848F-1AB4CBE981E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456360" y="2569320"/>
            <a:ext cx="220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验活动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溶质质量分数的氯化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溶液的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九单元 溶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9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3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019160" y="3790800"/>
            <a:ext cx="734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托盘天平、烧杯、量筒、玻璃棒、药匙、胶头滴管。氯化钠、蒸馏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31640" y="965160"/>
            <a:ext cx="6337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验目的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116000" y="1619280"/>
            <a:ext cx="69134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练习配制一定溶质质量分数的溶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深对溶质的质量分数概念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870120" y="32338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验用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84360" y="536400"/>
            <a:ext cx="68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验探究：配制一定溶质质量分数的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配制一定溶质质量分数的溶液" descr=""/>
          <p:cNvPicPr/>
          <p:nvPr/>
        </p:nvPicPr>
        <p:blipFill>
          <a:blip r:embed="rId1"/>
          <a:stretch/>
        </p:blipFill>
        <p:spPr>
          <a:xfrm>
            <a:off x="1282680" y="1098720"/>
            <a:ext cx="65548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1" descr=""/>
          <p:cNvPicPr/>
          <p:nvPr/>
        </p:nvPicPr>
        <p:blipFill>
          <a:blip r:embed="rId1"/>
          <a:stretch/>
        </p:blipFill>
        <p:spPr>
          <a:xfrm>
            <a:off x="853920" y="3213000"/>
            <a:ext cx="73915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2"/>
          <p:cNvGrpSpPr/>
          <p:nvPr/>
        </p:nvGrpSpPr>
        <p:grpSpPr>
          <a:xfrm>
            <a:off x="612720" y="4797360"/>
            <a:ext cx="2951280" cy="1426680"/>
            <a:chOff x="612720" y="4797360"/>
            <a:chExt cx="2951280" cy="1426680"/>
          </a:xfrm>
        </p:grpSpPr>
        <p:sp>
          <p:nvSpPr>
            <p:cNvPr id="77" name="Line 23"/>
            <p:cNvSpPr/>
            <p:nvPr/>
          </p:nvSpPr>
          <p:spPr>
            <a:xfrm>
              <a:off x="1450800" y="4797360"/>
              <a:ext cx="0" cy="92196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612720" y="5764320"/>
              <a:ext cx="29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注意药品的名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5"/>
          <p:cNvGrpSpPr/>
          <p:nvPr/>
        </p:nvGrpSpPr>
        <p:grpSpPr>
          <a:xfrm>
            <a:off x="2268360" y="4149720"/>
            <a:ext cx="2737080" cy="1729800"/>
            <a:chOff x="2268360" y="4149720"/>
            <a:chExt cx="2737080" cy="1729800"/>
          </a:xfrm>
        </p:grpSpPr>
        <p:sp>
          <p:nvSpPr>
            <p:cNvPr id="80" name="Line 26"/>
            <p:cNvSpPr/>
            <p:nvPr/>
          </p:nvSpPr>
          <p:spPr>
            <a:xfrm>
              <a:off x="2579400" y="4149720"/>
              <a:ext cx="870840" cy="12222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3325320" y="4149720"/>
              <a:ext cx="124920" cy="11988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8"/>
            <p:cNvSpPr/>
            <p:nvPr/>
          </p:nvSpPr>
          <p:spPr>
            <a:xfrm>
              <a:off x="2268360" y="541980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左“物”右“码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9"/>
          <p:cNvGrpSpPr/>
          <p:nvPr/>
        </p:nvGrpSpPr>
        <p:grpSpPr>
          <a:xfrm>
            <a:off x="5437080" y="4221000"/>
            <a:ext cx="3240000" cy="1524960"/>
            <a:chOff x="5437080" y="4221000"/>
            <a:chExt cx="3240000" cy="1524960"/>
          </a:xfrm>
        </p:grpSpPr>
        <p:sp>
          <p:nvSpPr>
            <p:cNvPr id="84" name="Line 30"/>
            <p:cNvSpPr/>
            <p:nvPr/>
          </p:nvSpPr>
          <p:spPr>
            <a:xfrm>
              <a:off x="6392880" y="4221000"/>
              <a:ext cx="147960" cy="104400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1"/>
            <p:cNvSpPr/>
            <p:nvPr/>
          </p:nvSpPr>
          <p:spPr>
            <a:xfrm>
              <a:off x="5437080" y="528624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选用适合量程的量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20"/>
          <p:cNvSpPr/>
          <p:nvPr/>
        </p:nvSpPr>
        <p:spPr>
          <a:xfrm>
            <a:off x="1071720" y="2344680"/>
            <a:ext cx="546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实验操作中应该注意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114560" y="1652760"/>
            <a:ext cx="61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配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527040" y="888840"/>
            <a:ext cx="8971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90160" y="1044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托盘天平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71480" y="2876400"/>
            <a:ext cx="7632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用前要调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两个托盘上各放一张大小相同的称量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称量时遵循左物右码的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镊子夹取砝码应按照从大到小的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称量完毕应将砝码放回盒中，游码归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天平"/>
          <p:cNvPicPr/>
          <p:nvPr/>
        </p:nvPicPr>
        <p:blipFill>
          <a:blip r:embed="rId1"/>
          <a:stretch/>
        </p:blipFill>
        <p:spPr>
          <a:xfrm>
            <a:off x="4843440" y="1111320"/>
            <a:ext cx="38797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2280" y="146952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配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氯化钠溶液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39800" y="229536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计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   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39800" y="3057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＿＿＿＿称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盐，放入烧杯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739800" y="3917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量取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＿＿量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m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，倒入盛有氯化钠的烧杯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739800" y="5213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溶解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玻璃棒搅拌，使氯化钠溶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257640" y="22654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330880" y="22654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941480" y="30002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托盘天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2300400" y="386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量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03120" y="787320"/>
            <a:ext cx="633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实验步骤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60360" y="1552680"/>
            <a:ext cx="8370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用已配好的质量分数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氯化钠溶液（密度约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04g/cm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配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质量分数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氯化钠溶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96720" y="3112920"/>
            <a:ext cx="26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152800" y="307548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氯化钠溶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体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556160" y="3067200"/>
            <a:ext cx="7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09920" y="380376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143160" y="344340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96720" y="454176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量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160720" y="4483080"/>
            <a:ext cx="691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量筒量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氯化钠溶液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水，倒入烧杯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71520" y="55389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混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222640" y="5522760"/>
            <a:ext cx="51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玻璃棒搅拌，使溶液混合均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797440" y="3070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g×3%÷6%=25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473800" y="340344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g÷1.04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4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473800" y="38354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g=25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77920" y="771480"/>
            <a:ext cx="8231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配制质量分数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％的氯化钠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5"/>
          <p:cNvSpPr/>
          <p:nvPr/>
        </p:nvSpPr>
        <p:spPr>
          <a:xfrm>
            <a:off x="519120" y="1332000"/>
            <a:ext cx="810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配制好的上述两种氯化钠溶液分别装入试剂瓶中，盖好瓶塞并贴上标签（标签中应包括药品名称和溶液中溶质的质量分数），放到试剂柜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6120" y="1198440"/>
            <a:ext cx="838512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造成实际值偏小的可能原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溶质溶解的量变少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质本身不纯；左码右物称量；天平空载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向左偏；溶质有撒落；溶质没有完全溶解就装瓶存放了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溶剂的量增多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仰视量取；烧杯内壁上有水；试剂瓶内壁上有水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造成实际值偏大的可能原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溶剂的量减少了：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俯视量取溶剂；量取的水没有完全转移到烧杯中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533520" indent="-533520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溶质溶解的量变多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平空载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向右偏；称量时，所用砝码已生锈或沾有油污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136440" y="5889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经典空趣体简"/>
              </a:rPr>
              <a:t>问题与交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0:26:56Z</dcterms:modified>
  <cp:revision>3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